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png" ContentType="image/pn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DD03-B2D3-4E2F-AA5E-E9BFB1693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F6C0-ED2C-4E04-B75B-E215740A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6AB-503A-4A7B-9DDA-2EB71AF7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FD0F-383C-4E88-B941-4F8A4C3C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83A8-006A-49F3-BC6B-1102142B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89B0-18A1-4CE6-A78F-EFAE9F72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B328-6461-4189-91A7-5108CC30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CC69-E0F4-4DDB-81B8-F33FDE96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596D-357A-47CE-9406-44E07BBC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0736-D3BD-44E2-8135-527D69B33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D116-96EF-4061-8A66-CB15C549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9962-DF39-430D-A6FD-9F9316B9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6BBE-7B64-4AF4-A429-47AF796523B3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8.jpe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t.wikipedia.org/wiki/Fontana_dell&apos;Acqua_Felice" TargetMode="External"/><Relationship Id="rId2" Type="http://schemas.openxmlformats.org/officeDocument/2006/relationships/hyperlink" Target="http://www.romasegreta.it/rubriche/acquedotti.html" TargetMode="External"/><Relationship Id="rId3" Type="http://schemas.openxmlformats.org/officeDocument/2006/relationships/hyperlink" Target="http://roma.andreapollett.com/S3/romaaq4i.htm" TargetMode="Externa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3068640"/>
            <a:ext cx="64008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Flaminia Carmell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Francesca Zucc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classe 2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10 gennaio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WordArt 4" descr=""/>
          <p:cNvPicPr/>
          <p:nvPr/>
        </p:nvPicPr>
        <p:blipFill>
          <a:blip r:embed="rId1"/>
          <a:stretch/>
        </p:blipFill>
        <p:spPr>
          <a:xfrm>
            <a:off x="762120" y="2127240"/>
            <a:ext cx="714348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WordArt 4" descr=""/>
          <p:cNvPicPr/>
          <p:nvPr/>
        </p:nvPicPr>
        <p:blipFill>
          <a:blip r:embed="rId1"/>
          <a:stretch/>
        </p:blipFill>
        <p:spPr>
          <a:xfrm>
            <a:off x="603360" y="324000"/>
            <a:ext cx="7016760" cy="1047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foto 2"/>
          <p:cNvPicPr/>
          <p:nvPr/>
        </p:nvPicPr>
        <p:blipFill>
          <a:blip r:embed="rId2"/>
          <a:stretch/>
        </p:blipFill>
        <p:spPr>
          <a:xfrm>
            <a:off x="1692360" y="2060640"/>
            <a:ext cx="5894280" cy="2592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476360" y="5229360"/>
            <a:ext cx="691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Percorso dell’Acqua Felice: dalle sorgenti nella campagna romana fra Zagarolo e Palestrina, fino alla città di Roma, sul Quirinale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Il condotto, che superava la via Tuscolana scorrendo sopra la cosiddetta Porta Furba, entrava a Roma presso la porta Tiburtina (allora "porta San Lorenzo") passando sopra l'Arco di Sisto V e terminava con la Fontana del Mosè, oggi visibile in piazza San Bernar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AQ45"/>
          <p:cNvPicPr/>
          <p:nvPr/>
        </p:nvPicPr>
        <p:blipFill>
          <a:blip r:embed="rId1"/>
          <a:stretch/>
        </p:blipFill>
        <p:spPr>
          <a:xfrm>
            <a:off x="5076720" y="2349360"/>
            <a:ext cx="3040200" cy="230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4932360" y="4581360"/>
            <a:ext cx="31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4932360" y="4653000"/>
            <a:ext cx="3672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Book Antiqua"/>
              </a:rPr>
              <a:t>Porta Furba è l’arco che si forma nell’incrocio tra l’acquedotto Felice e la via Tuscolana nei pressi del quartiere Quadraro a Roma</a:t>
            </a: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0" name="WordArt 12" descr=""/>
          <p:cNvPicPr/>
          <p:nvPr/>
        </p:nvPicPr>
        <p:blipFill>
          <a:blip r:embed="rId2"/>
          <a:stretch/>
        </p:blipFill>
        <p:spPr>
          <a:xfrm>
            <a:off x="2530440" y="249120"/>
            <a:ext cx="3919680" cy="9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24000" y="1413000"/>
            <a:ext cx="4752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Book Antiqua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Dopo oltre tredici secoli e mezzo dalla realizzazione dell’ultimo acquedotto, crollato definitivamente l’impero romano e trascorso anche tutto il medioevo, un nuovo acquedotto venne costruito tra il 1585 e il 1587 da Matteo Bortolani e soprattutto da Giovanni Fontana durante il pontificato di papa Sisto V (al secolo Felice Peretti, da cui, appunto, il nome dell’acquedotto), riutilizzando le sorgenti dell’</a:t>
            </a:r>
            <a:r>
              <a:rPr b="0" i="1" lang="it-IT" sz="2400" spc="-1" strike="noStrike">
                <a:solidFill>
                  <a:srgbClr val="000000"/>
                </a:solidFill>
                <a:latin typeface="Book Antiqua"/>
              </a:rPr>
              <a:t>Aqua Alexandrina 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e altre delle zone limitrofe</a:t>
            </a: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WordArt 4" descr=""/>
          <p:cNvPicPr/>
          <p:nvPr/>
        </p:nvPicPr>
        <p:blipFill>
          <a:blip r:embed="rId1"/>
          <a:stretch/>
        </p:blipFill>
        <p:spPr>
          <a:xfrm>
            <a:off x="3591000" y="542880"/>
            <a:ext cx="1706400" cy="689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250px-Sisto_V_Papa"/>
          <p:cNvPicPr/>
          <p:nvPr/>
        </p:nvPicPr>
        <p:blipFill>
          <a:blip r:embed="rId2"/>
          <a:stretch/>
        </p:blipFill>
        <p:spPr>
          <a:xfrm>
            <a:off x="5435640" y="1916280"/>
            <a:ext cx="2739960" cy="3528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1"/>
          <p:cNvSpPr/>
          <p:nvPr/>
        </p:nvSpPr>
        <p:spPr>
          <a:xfrm>
            <a:off x="6156360" y="5516640"/>
            <a:ext cx="201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elice Peretti, papa Sisto V (1585-1590)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Book Antiqua"/>
              </a:rPr>
              <a:t>L’acquedotto era destinato all’approvvigionamento idrico delle zone dei colli Viminale e Quirinale, ma verosimilmente l’intenzione primaria era di rifornire d’acqua la villa papale che si estendeva su entrambi i coll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foto 1"/>
          <p:cNvPicPr/>
          <p:nvPr/>
        </p:nvPicPr>
        <p:blipFill>
          <a:blip r:embed="rId1"/>
          <a:stretch/>
        </p:blipFill>
        <p:spPr>
          <a:xfrm>
            <a:off x="5219640" y="1844640"/>
            <a:ext cx="3600360" cy="1440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2"/>
          <p:cNvSpPr/>
          <p:nvPr/>
        </p:nvSpPr>
        <p:spPr>
          <a:xfrm>
            <a:off x="5435640" y="3284640"/>
            <a:ext cx="324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Tratto dell’acquedotto nella campagna romana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8" name="Picture 13" descr="10247306"/>
          <p:cNvPicPr/>
          <p:nvPr/>
        </p:nvPicPr>
        <p:blipFill>
          <a:blip r:embed="rId2"/>
          <a:stretch/>
        </p:blipFill>
        <p:spPr>
          <a:xfrm>
            <a:off x="5724360" y="4005360"/>
            <a:ext cx="2176560" cy="19000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4"/>
          <p:cNvSpPr/>
          <p:nvPr/>
        </p:nvSpPr>
        <p:spPr>
          <a:xfrm>
            <a:off x="6516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5651640" y="5950080"/>
            <a:ext cx="2233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Book Antiqua"/>
              </a:rPr>
              <a:t>Fontana del Mosè, mostra d’acqua terminale dell’ Acquedotto Felice</a:t>
            </a:r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1" name="WordArt 19" descr=""/>
          <p:cNvPicPr/>
          <p:nvPr/>
        </p:nvPicPr>
        <p:blipFill>
          <a:blip r:embed="rId3"/>
          <a:stretch/>
        </p:blipFill>
        <p:spPr>
          <a:xfrm>
            <a:off x="2895480" y="542880"/>
            <a:ext cx="3438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L’acquedotto fu progettato da Matteo Bartolani che commise un gravissimo errore inerente la pendenza del condotto, poi in seguito corretto dall’architetto Giovanni Fonta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L'origine del nome di Porta Furba, dove passa l’acquedotto, rimane incerto. Una teoria deriva dalla presenza di ladri e malavitosi che all’epoca si aggiravano nella zona ("furbi", dal latino fur = ladr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Nell'agosto del 1586 Camilla Peretti, sorella del papa, portò al fratello la bottiglia con la prima acqua immessa nelle condotte la quale, analizzata dai farmacisti di Castel Sant'Angelo, fu trovata – forse con una qualche cortigianeria - la migliore delle acque potabili sgorganti in Roma.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 Antiqua"/>
              </a:rPr>
              <a:t>Una leggenda racconta che lo scultore della statua del Mosè si sia suicidato per la vergogna, data la bruttezza della stat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WordArt 4" descr=""/>
          <p:cNvPicPr/>
          <p:nvPr/>
        </p:nvPicPr>
        <p:blipFill>
          <a:blip r:embed="rId1"/>
          <a:stretch/>
        </p:blipFill>
        <p:spPr>
          <a:xfrm>
            <a:off x="3760920" y="396720"/>
            <a:ext cx="192708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WordArt 4" descr=""/>
          <p:cNvPicPr/>
          <p:nvPr/>
        </p:nvPicPr>
        <p:blipFill>
          <a:blip r:embed="rId1"/>
          <a:stretch/>
        </p:blipFill>
        <p:spPr>
          <a:xfrm>
            <a:off x="2975040" y="324000"/>
            <a:ext cx="1846080" cy="955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IMG_1343"/>
          <p:cNvPicPr/>
          <p:nvPr/>
        </p:nvPicPr>
        <p:blipFill>
          <a:blip r:embed="rId2"/>
          <a:stretch/>
        </p:blipFill>
        <p:spPr>
          <a:xfrm>
            <a:off x="468360" y="404640"/>
            <a:ext cx="2592360" cy="345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IMG_1344"/>
          <p:cNvPicPr/>
          <p:nvPr/>
        </p:nvPicPr>
        <p:blipFill>
          <a:blip r:embed="rId3"/>
          <a:stretch/>
        </p:blipFill>
        <p:spPr>
          <a:xfrm>
            <a:off x="468360" y="3860640"/>
            <a:ext cx="3672000" cy="2752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9" descr="10247306"/>
          <p:cNvPicPr/>
          <p:nvPr/>
        </p:nvPicPr>
        <p:blipFill>
          <a:blip r:embed="rId4"/>
          <a:stretch/>
        </p:blipFill>
        <p:spPr>
          <a:xfrm>
            <a:off x="3564000" y="1773360"/>
            <a:ext cx="2712960" cy="2712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AQ11"/>
          <p:cNvPicPr/>
          <p:nvPr/>
        </p:nvPicPr>
        <p:blipFill>
          <a:blip r:embed="rId5"/>
          <a:stretch/>
        </p:blipFill>
        <p:spPr>
          <a:xfrm>
            <a:off x="5580000" y="189000"/>
            <a:ext cx="2916360" cy="2189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foto 1"/>
          <p:cNvPicPr/>
          <p:nvPr/>
        </p:nvPicPr>
        <p:blipFill>
          <a:blip r:embed="rId6"/>
          <a:stretch/>
        </p:blipFill>
        <p:spPr>
          <a:xfrm>
            <a:off x="4643280" y="5756400"/>
            <a:ext cx="4176720" cy="1101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IMG_1347"/>
          <p:cNvPicPr/>
          <p:nvPr/>
        </p:nvPicPr>
        <p:blipFill>
          <a:blip r:embed="rId7"/>
          <a:stretch/>
        </p:blipFill>
        <p:spPr>
          <a:xfrm>
            <a:off x="6372360" y="2637000"/>
            <a:ext cx="2214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it.wikipedia.org/wiki/Fontana_dell'Acqua_Felic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10 gennaio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omasegreta.it/rubriche/acquedotti.html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10 gennaio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oma.andreapollett.com/S3/romaaq4i.htm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, 12 gennaio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uida di Roma, Touring Club,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WordArt 4" descr=""/>
          <p:cNvPicPr/>
          <p:nvPr/>
        </p:nvPicPr>
        <p:blipFill>
          <a:blip r:embed="rId4"/>
          <a:stretch/>
        </p:blipFill>
        <p:spPr>
          <a:xfrm>
            <a:off x="3524400" y="249120"/>
            <a:ext cx="2090520" cy="8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9:30:21Z</dcterms:created>
  <dc:creator>Susanna</dc:creator>
  <dc:description/>
  <dc:language>en-US</dc:language>
  <cp:lastModifiedBy>Lenovo</cp:lastModifiedBy>
  <dcterms:modified xsi:type="dcterms:W3CDTF">2014-01-13T06:05:37Z</dcterms:modified>
  <cp:revision>10</cp:revision>
  <dc:subject/>
  <dc:title>Diapositiva 1</dc:title>
</cp:coreProperties>
</file>